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C76-6D46-488C-98FF-2417DBF4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9D1-42BD-47C5-9E5A-123E93E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CD1-B20A-435C-BFAC-E6897E01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976-9856-4AF3-AA01-E81D26EB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34F-45C9-4DBE-BC71-662C0DB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562-E827-4AFB-8E02-9E0352C2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CBF-5277-4270-A1F7-8059EDE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92C-11EC-45F0-9CCD-F43A3BB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DBB-5448-42A5-894F-D04B31E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05B-6CFF-43D4-A271-C90CA6FE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472-340D-4B81-8764-67A618C8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9C9-F0BC-40CA-8863-90FE976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D212-2425-4F67-BCCC-92BE4FA87A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leće lome svjet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ni snop koji izlazi iz žarišta sabirne leće prolaskom kroz leću postaje paralelan sn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svjetlost lomi u rastresnoj leć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dubljena leć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tresna jer se paralelan svjetlosni snop nakon prolaska kroz leću šir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0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konstrukciju slike u lećama važni s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ptičko središte leće 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optička os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žarišta leće F i F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ptička os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pravac kojemu pripadaju oba žarišta i optičko središte leć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nastaje slika u sabirnoj le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2060280"/>
            <a:ext cx="8496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rakteristične zrake svjetlos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upada na leć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poredn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s optičkom osi, nakon loma prolazi kroz žarište F’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pro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žarištem F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nakon loma usporedna je s optičkom os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pro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ptičkim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redištem leće ne mijenja smj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a) predmet je dalje od središta zakrivlje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989000"/>
            <a:ext cx="2314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obrnuta, stvarna i umanj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9846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SnapShot(517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b) Predmet je točno na udaljenosti 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060280"/>
            <a:ext cx="2819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obrnuta, stvarna i jednake veličine kao i pred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3635280" y="2176560"/>
            <a:ext cx="52578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SnapShot(677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c) Predmet je između u udaljenosti 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205000"/>
            <a:ext cx="2530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obrnuta, stvarna i uveć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54864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SnapShot(678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99840"/>
            <a:ext cx="80755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p vode na stak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va su slova gledana kroz staklo, a kakva kroz kap vod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SnapShot(503).jpg"/>
          <p:cNvPicPr/>
          <p:nvPr/>
        </p:nvPicPr>
        <p:blipFill>
          <a:blip r:embed="rId3"/>
          <a:srcRect l="7677" t="18548" r="0" b="0"/>
          <a:stretch/>
        </p:blipFill>
        <p:spPr>
          <a:xfrm>
            <a:off x="1692360" y="3284640"/>
            <a:ext cx="5908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d) Predmet je točno u žariš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2492280"/>
            <a:ext cx="302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u beskonačn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55101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ada sabirna leća djeluje kao povećalo (lup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2924280"/>
            <a:ext cx="2160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uspravna, uvećana i privi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63514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332160" y="3371760"/>
            <a:ext cx="2479680" cy="114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853272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ako nastaje slika u rastresnoj leć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5983200" cy="3367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68360" y="3141720"/>
            <a:ext cx="215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je umanjena, uspravna i privi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napShot(681).jpg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Leća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je prozirno tijelo omeđeno dvjema karakterističnim plohama koje su najčešće dijelovi kuglinih plo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kujemo dvije vrste leća: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birn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tankih rubova i deblje sredine)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tresn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debljih rubova i tanje sred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ko sabirna leća lomi svjet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eća lomi svjetlost tako da je skuplja u jednoj točk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DSC00768 sa fokusom.jpg"/>
          <p:cNvPicPr/>
          <p:nvPr/>
        </p:nvPicPr>
        <p:blipFill>
          <a:blip r:embed="rId4"/>
          <a:srcRect l="24137" t="0" r="36460" b="0"/>
          <a:stretch/>
        </p:blipFill>
        <p:spPr>
          <a:xfrm>
            <a:off x="4788000" y="1125360"/>
            <a:ext cx="3603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daljenost žarišta od središta leće naziva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žarišna daljina leć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označavamo je znakom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322a.tif"/>
          <p:cNvPicPr/>
          <p:nvPr/>
        </p:nvPicPr>
        <p:blipFill>
          <a:blip r:embed="rId7"/>
          <a:stretch/>
        </p:blipFill>
        <p:spPr>
          <a:xfrm>
            <a:off x="3059280" y="2421000"/>
            <a:ext cx="32414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akost leć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kazujemo recipročnom vrijednošću žarišne daljine, 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inica jakosti leće je recipročni met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okulistici (oftalmologiji) ta se mjerna jedinica zov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ioptri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3924360" y="2449440"/>
            <a:ext cx="1009440" cy="9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9"/>
          <a:stretch/>
        </p:blipFill>
        <p:spPr>
          <a:xfrm>
            <a:off x="3708360" y="4137120"/>
            <a:ext cx="13906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akost sabirnih leća je pozitivan, a rastresnih negativan bro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lika je žarišna daljina leć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323.tif"/>
          <p:cNvPicPr/>
          <p:nvPr/>
        </p:nvPicPr>
        <p:blipFill>
          <a:blip r:embed="rId3"/>
          <a:stretch/>
        </p:blipFill>
        <p:spPr>
          <a:xfrm>
            <a:off x="1258920" y="3357720"/>
            <a:ext cx="683748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r: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20 cm = 0,2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 /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 1 / 0,2 m = 5 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ismo li dobili jednake rezultate, kada bismo leću okrenu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eće imaj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va žarišt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Ona se nalaz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suprotnim stranama leće 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dnak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u udaljena od optičkog središta leće 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se paralelni svjetlosni snopovi svjetlosti lome kroz žarište na suprotnoj strani leće, kako se lomi svjetlost izvora koji se nalazi u žariš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400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8:53:45Z</dcterms:created>
  <dc:creator>Zdenko</dc:creator>
  <dc:description/>
  <dc:language>en-US</dc:language>
  <cp:lastModifiedBy>Zdenko</cp:lastModifiedBy>
  <dcterms:modified xsi:type="dcterms:W3CDTF">2014-07-18T09:15:57Z</dcterms:modified>
  <cp:revision>10</cp:revision>
  <dc:subject/>
  <dc:title>Kako leće lome svjetlost</dc:title>
</cp:coreProperties>
</file>